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E14-1950-4E01-BE02-ADAAE2B4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B9D-5F62-4B29-B145-D89E9DEA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679-3266-4076-AE41-02E98C03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A94-DD80-411F-8791-B6104412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709-E34D-41F1-B9DA-E079D53C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CC9E-7D81-425C-9AA7-81908B10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EBB-187E-4E84-B00C-6D5829B8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A1A-0C1E-4818-82A1-EA203FF8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D08-A35C-49E8-98B4-D4B7368E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31E-8180-4427-BAA3-117A63E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B34-50BA-441E-A58A-0E10B2D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34E-1B7F-4D76-9100-E138521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5F16-7464-4C9F-B1DD-F512BB2020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Maxim\Documents\6_Image\Эмблема здание лицея\Эмблема ЛИГУ.gif"/>
          <p:cNvPicPr/>
          <p:nvPr/>
        </p:nvPicPr>
        <p:blipFill>
          <a:blip r:embed="rId1"/>
          <a:stretch/>
        </p:blipFill>
        <p:spPr>
          <a:xfrm>
            <a:off x="34920" y="6111720"/>
            <a:ext cx="606600" cy="70200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11"/>
          <p:cNvGrpSpPr/>
          <p:nvPr/>
        </p:nvGrpSpPr>
        <p:grpSpPr>
          <a:xfrm>
            <a:off x="727200" y="317520"/>
            <a:ext cx="7632720" cy="1152360"/>
            <a:chOff x="727200" y="317520"/>
            <a:chExt cx="7632720" cy="1152360"/>
          </a:xfrm>
        </p:grpSpPr>
        <p:sp>
          <p:nvSpPr>
            <p:cNvPr id="43" name="Лента лицом вниз 12"/>
            <p:cNvSpPr/>
            <p:nvPr/>
          </p:nvSpPr>
          <p:spPr>
            <a:xfrm>
              <a:off x="727200" y="317520"/>
              <a:ext cx="7632720" cy="1152360"/>
            </a:xfrm>
            <a:custGeom>
              <a:avLst/>
              <a:gdLst>
                <a:gd name="textAreaLeft" fmla="*/ 1109160 w 7632720"/>
                <a:gd name="textAreaRight" fmla="*/ 6523560 w 7632720"/>
                <a:gd name="textAreaTop" fmla="*/ 12780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64" y="0"/>
                  </a:lnTo>
                  <a:arcTo wR="675" hR="599" stAng="16200000" swAng="5400000"/>
                  <a:lnTo>
                    <a:pt x="5839" y="2397"/>
                  </a:lnTo>
                  <a:lnTo>
                    <a:pt x="15761" y="2397"/>
                  </a:lnTo>
                  <a:lnTo>
                    <a:pt x="15761" y="599"/>
                  </a:lnTo>
                  <a:arcTo wR="675" hR="599" stAng="10800000" swAng="5400000"/>
                  <a:lnTo>
                    <a:pt x="21600" y="0"/>
                  </a:lnTo>
                  <a:lnTo>
                    <a:pt x="18900" y="9602"/>
                  </a:lnTo>
                  <a:lnTo>
                    <a:pt x="21600" y="19203"/>
                  </a:lnTo>
                  <a:lnTo>
                    <a:pt x="18461" y="19203"/>
                  </a:lnTo>
                  <a:lnTo>
                    <a:pt x="18461" y="21001"/>
                  </a:lnTo>
                  <a:arcTo wR="675" hR="599" stAng="0" swAng="5400000"/>
                  <a:lnTo>
                    <a:pt x="3814" y="21600"/>
                  </a:lnTo>
                  <a:arcTo wR="675" hR="599" stAng="5400000" swAng="5400000"/>
                  <a:lnTo>
                    <a:pt x="3139" y="19203"/>
                  </a:lnTo>
                  <a:lnTo>
                    <a:pt x="0" y="19203"/>
                  </a:lnTo>
                  <a:lnTo>
                    <a:pt x="2700" y="9602"/>
                  </a:lnTo>
                  <a:close/>
                </a:path>
                <a:path fill="none" w="21600" h="21600">
                  <a:moveTo>
                    <a:pt x="5839" y="599"/>
                  </a:moveTo>
                  <a:arcTo wR="675" hR="599" stAng="0" swAng="5400000"/>
                  <a:lnTo>
                    <a:pt x="3814" y="1199"/>
                  </a:lnTo>
                  <a:arcTo wR="675" hR="599" stAng="16200000" swAng="-5400000"/>
                  <a:arcTo wR="675" hR="599" stAng="10800000" swAng="-5400000"/>
                  <a:lnTo>
                    <a:pt x="5839" y="2397"/>
                  </a:lnTo>
                </a:path>
                <a:path fill="none" w="21600" h="21600">
                  <a:moveTo>
                    <a:pt x="15761" y="599"/>
                  </a:moveTo>
                  <a:arcTo wR="675" hR="599" stAng="10800000" swAng="-5400000"/>
                  <a:lnTo>
                    <a:pt x="17786" y="1199"/>
                  </a:lnTo>
                  <a:arcTo wR="675" hR="599" stAng="16200000" swAng="5400000"/>
                  <a:arcTo wR="675" hR="599" stAng="0" swAng="5400000"/>
                  <a:lnTo>
                    <a:pt x="15761" y="2397"/>
                  </a:lnTo>
                </a:path>
                <a:path fill="none" w="21600" h="21600">
                  <a:moveTo>
                    <a:pt x="3139" y="1798"/>
                  </a:moveTo>
                  <a:lnTo>
                    <a:pt x="3139" y="19203"/>
                  </a:lnTo>
                </a:path>
                <a:path fill="none" w="21600" h="21600">
                  <a:moveTo>
                    <a:pt x="18461" y="1798"/>
                  </a:moveTo>
                  <a:lnTo>
                    <a:pt x="18461" y="19203"/>
                  </a:lnTo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ложение и умножение вероят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4"/>
            <p:cNvSpPr/>
            <p:nvPr/>
          </p:nvSpPr>
          <p:spPr>
            <a:xfrm>
              <a:off x="1836360" y="509760"/>
              <a:ext cx="1655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9" descr="http://upload.wikimedia.org/wikipedia/commons/a/a4/Christiaan_Huygens-painting.jpeg"/>
          <p:cNvPicPr/>
          <p:nvPr/>
        </p:nvPicPr>
        <p:blipFill>
          <a:blip r:embed="rId2"/>
          <a:stretch/>
        </p:blipFill>
        <p:spPr>
          <a:xfrm>
            <a:off x="596880" y="2008080"/>
            <a:ext cx="2119320" cy="29527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596880" y="494352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. Гюйг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629 — 169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ая прямоугольная выноска 3"/>
          <p:cNvSpPr/>
          <p:nvPr/>
        </p:nvSpPr>
        <p:spPr>
          <a:xfrm>
            <a:off x="3014640" y="2060640"/>
            <a:ext cx="5472000" cy="2016000"/>
          </a:xfrm>
          <a:prstGeom prst="wedgeRoundRectCallout">
            <a:avLst>
              <a:gd name="adj1" fmla="val -56564"/>
              <a:gd name="adj2" fmla="val -33087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м более трудной является задача определения при помощи рассуждений того, что кажется неопределенным и подчиненного случаю, тем более наука, которая достигает результата, представляется удивите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862360" y="4699080"/>
            <a:ext cx="58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55 г. - Открывает кольцо и спутник Са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1657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г. - Трактат «О расчетах при игре в кости» - 1-ое научное сочинение по теории вероя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68 г. - Теория соударения 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73 г. - Сочинение «Маятниковые ча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78 г. - «Трактат о све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80880" y="303120"/>
            <a:ext cx="83678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интернет-магазине три телефонных оператора. В случайный момент оператор  занят разговором  с клиентом с вероятностью 0,7 независимо от других. Клиент звонит в магазин. Найдите вероятность того, что в этот момент   хотя бы один оператор не зан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585720" y="263700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Объект 3"/>
              <p:cNvSpPr txBox="1"/>
              <p:nvPr/>
            </p:nvSpPr>
            <p:spPr>
              <a:xfrm>
                <a:off x="922320" y="3486240"/>
                <a:ext cx="4552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А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три оператора заняты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Box 4"/>
          <p:cNvSpPr/>
          <p:nvPr/>
        </p:nvSpPr>
        <p:spPr>
          <a:xfrm>
            <a:off x="611280" y="40622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формуле умножения вероят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601560" y="4567320"/>
                <a:ext cx="4016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Box 6"/>
          <p:cNvSpPr/>
          <p:nvPr/>
        </p:nvSpPr>
        <p:spPr>
          <a:xfrm>
            <a:off x="611280" y="30700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А=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{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хотя бы один оператор не занят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669960" y="5286240"/>
                <a:ext cx="50799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Box 8"/>
          <p:cNvSpPr/>
          <p:nvPr/>
        </p:nvSpPr>
        <p:spPr>
          <a:xfrm>
            <a:off x="892080" y="5992920"/>
            <a:ext cx="74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0,6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8" descr="&amp;Kcy;&amp;acy;&amp;rcy;&amp;tcy;&amp;icy;&amp;ncy;&amp;kcy;&amp;acy; 575 &amp;icy;&amp;zcy; 152500"/>
          <p:cNvPicPr/>
          <p:nvPr/>
        </p:nvPicPr>
        <p:blipFill>
          <a:blip r:embed="rId1"/>
          <a:stretch/>
        </p:blipFill>
        <p:spPr>
          <a:xfrm>
            <a:off x="6392880" y="2868480"/>
            <a:ext cx="25718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8" descr="&amp;Kcy;&amp;acy;&amp;rcy;&amp;tcy;&amp;icy;&amp;ncy;&amp;kcy;&amp;acy; 308 &amp;icy;&amp;zcy; 16807"/>
          <p:cNvPicPr/>
          <p:nvPr/>
        </p:nvPicPr>
        <p:blipFill>
          <a:blip r:embed="rId1"/>
          <a:srcRect l="0" t="0" r="20582" b="0"/>
          <a:stretch/>
        </p:blipFill>
        <p:spPr>
          <a:xfrm>
            <a:off x="250920" y="3933720"/>
            <a:ext cx="1549440" cy="2081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&amp;Kcy;&amp;acy;&amp;rcy;&amp;tcy;&amp;icy;&amp;ncy;&amp;kcy;&amp;acy; 308 &amp;icy;&amp;zcy; 16807"/>
          <p:cNvPicPr/>
          <p:nvPr/>
        </p:nvPicPr>
        <p:blipFill>
          <a:blip r:embed="rId2"/>
          <a:srcRect l="25165" t="0" r="0" b="0"/>
          <a:stretch/>
        </p:blipFill>
        <p:spPr>
          <a:xfrm>
            <a:off x="1657440" y="3933720"/>
            <a:ext cx="1425600" cy="20811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380880" y="303120"/>
            <a:ext cx="836784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лассе 21 ученик, среди них 2 друга – Тоша и Гоша. На уроке физкультуры класс случайным образом разбивают на 3 равные группы . Найдите вероятность того, что Тоша и Гоша попали в одну груп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85720" y="223344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11280" y="2637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1:3 = 7 – количество учеников в од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9"/>
              <p:cNvSpPr txBox="1"/>
              <p:nvPr/>
            </p:nvSpPr>
            <p:spPr>
              <a:xfrm>
                <a:off x="684360" y="3068640"/>
                <a:ext cx="380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Box 10"/>
          <p:cNvSpPr/>
          <p:nvPr/>
        </p:nvSpPr>
        <p:spPr>
          <a:xfrm>
            <a:off x="1187280" y="31892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того, что Тоша попадет в 1-ую груп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Объект 11"/>
              <p:cNvSpPr txBox="1"/>
              <p:nvPr/>
            </p:nvSpPr>
            <p:spPr>
              <a:xfrm>
                <a:off x="2933640" y="3716280"/>
                <a:ext cx="1282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Box 12"/>
          <p:cNvSpPr/>
          <p:nvPr/>
        </p:nvSpPr>
        <p:spPr>
          <a:xfrm>
            <a:off x="4427640" y="3645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того, что Гоша попадет в ту же груп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Объект 13"/>
              <p:cNvSpPr txBox="1"/>
              <p:nvPr/>
            </p:nvSpPr>
            <p:spPr>
              <a:xfrm>
                <a:off x="2948040" y="4538520"/>
                <a:ext cx="1363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14"/>
          <p:cNvSpPr/>
          <p:nvPr/>
        </p:nvSpPr>
        <p:spPr>
          <a:xfrm>
            <a:off x="4427640" y="4437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того, что Тоша и Гоша попадут в 1-ую  груп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2916360" y="530064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го групп 3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 = 0,1 + 0,1 + 0,1 = 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892080" y="5992920"/>
            <a:ext cx="74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0,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80880" y="303120"/>
            <a:ext cx="83678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9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лассе 28 учащихся, среди них Наташа и Владик - брат и сестра. Для проведения медосмотра класс случайным образом разбивают на 2 равные группы. Найти вероятность того, что Владик и Наташа попали в разные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&amp;Kcy;&amp;acy;&amp;rcy;&amp;tcy;&amp;icy;&amp;ncy;&amp;kcy;&amp;acy; 294 &amp;icy;&amp;zcy; 163499"/>
          <p:cNvPicPr/>
          <p:nvPr/>
        </p:nvPicPr>
        <p:blipFill>
          <a:blip r:embed="rId1"/>
          <a:stretch/>
        </p:blipFill>
        <p:spPr>
          <a:xfrm>
            <a:off x="324000" y="3357720"/>
            <a:ext cx="1803240" cy="2158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8"/>
          <p:cNvSpPr/>
          <p:nvPr/>
        </p:nvSpPr>
        <p:spPr>
          <a:xfrm>
            <a:off x="585720" y="184320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611280" y="22464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количество учеников в од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10"/>
              <p:cNvSpPr txBox="1"/>
              <p:nvPr/>
            </p:nvSpPr>
            <p:spPr>
              <a:xfrm>
                <a:off x="655560" y="2678040"/>
                <a:ext cx="852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Box 11"/>
          <p:cNvSpPr/>
          <p:nvPr/>
        </p:nvSpPr>
        <p:spPr>
          <a:xfrm>
            <a:off x="1547640" y="2800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того, что Наташа попадет в 1-ую груп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Объект 12"/>
              <p:cNvSpPr txBox="1"/>
              <p:nvPr/>
            </p:nvSpPr>
            <p:spPr>
              <a:xfrm>
                <a:off x="2268360" y="3325680"/>
                <a:ext cx="1305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TextBox 13"/>
          <p:cNvSpPr/>
          <p:nvPr/>
        </p:nvSpPr>
        <p:spPr>
          <a:xfrm>
            <a:off x="3772080" y="3255840"/>
            <a:ext cx="497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того, что Владик попадет во 2-ую груп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Объект 15"/>
              <p:cNvSpPr txBox="1"/>
              <p:nvPr/>
            </p:nvSpPr>
            <p:spPr>
              <a:xfrm>
                <a:off x="2325600" y="4148280"/>
                <a:ext cx="12956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TextBox 16"/>
          <p:cNvSpPr/>
          <p:nvPr/>
        </p:nvSpPr>
        <p:spPr>
          <a:xfrm>
            <a:off x="3773520" y="4079880"/>
            <a:ext cx="497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того, что Наташа попадет 1-ю, а Владик во 2-ую  груп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792440" y="5157720"/>
            <a:ext cx="695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-ой случай: Наташа во 2-ую, Владик в 1-ую группу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Объект 18"/>
              <p:cNvSpPr txBox="1"/>
              <p:nvPr/>
            </p:nvSpPr>
            <p:spPr>
              <a:xfrm>
                <a:off x="2368440" y="5661000"/>
                <a:ext cx="1987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TextBox 19"/>
          <p:cNvSpPr/>
          <p:nvPr/>
        </p:nvSpPr>
        <p:spPr>
          <a:xfrm>
            <a:off x="4995720" y="599292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14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380880" y="303120"/>
            <a:ext cx="836784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10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группе иностранных туристов 51 человек. Среди них два испанца. Для посещения музея группу делят на две подгруппы – 25 и 26 человек – случайным образом. Найти вероятность того, что оба испанца окажутся в одной под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585720" y="224964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&amp;Kcy;&amp;acy;&amp;rcy;&amp;tcy;&amp;icy;&amp;ncy;&amp;kcy;&amp;acy; 322 &amp;icy;&amp;zcy; 22722"/>
          <p:cNvPicPr/>
          <p:nvPr/>
        </p:nvPicPr>
        <p:blipFill>
          <a:blip r:embed="rId1"/>
          <a:stretch/>
        </p:blipFill>
        <p:spPr>
          <a:xfrm>
            <a:off x="250920" y="4471920"/>
            <a:ext cx="2233440" cy="154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Объект 5"/>
              <p:cNvSpPr txBox="1"/>
              <p:nvPr/>
            </p:nvSpPr>
            <p:spPr>
              <a:xfrm>
                <a:off x="704880" y="2808360"/>
                <a:ext cx="22114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TextBox 6"/>
          <p:cNvSpPr/>
          <p:nvPr/>
        </p:nvSpPr>
        <p:spPr>
          <a:xfrm>
            <a:off x="2987640" y="274176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, что оба испанца окажутся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Объект 7"/>
              <p:cNvSpPr txBox="1"/>
              <p:nvPr/>
            </p:nvSpPr>
            <p:spPr>
              <a:xfrm>
                <a:off x="684360" y="3672000"/>
                <a:ext cx="22111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Box 8"/>
          <p:cNvSpPr/>
          <p:nvPr/>
        </p:nvSpPr>
        <p:spPr>
          <a:xfrm>
            <a:off x="2981160" y="360684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, что оба испанца окажутся 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Объект 9"/>
              <p:cNvSpPr txBox="1"/>
              <p:nvPr/>
            </p:nvSpPr>
            <p:spPr>
              <a:xfrm>
                <a:off x="2627280" y="4537080"/>
                <a:ext cx="3886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Box 10"/>
          <p:cNvSpPr/>
          <p:nvPr/>
        </p:nvSpPr>
        <p:spPr>
          <a:xfrm>
            <a:off x="2556000" y="5189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, что оба испанца окажутся 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ли в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4995720" y="599292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25/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97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C:\Users\Maxim\Documents\6_Image\Эмблема здание лицея\Эмблема ЛИГУ.gif"/>
          <p:cNvPicPr/>
          <p:nvPr/>
        </p:nvPicPr>
        <p:blipFill>
          <a:blip r:embed="rId1"/>
          <a:stretch/>
        </p:blipFill>
        <p:spPr>
          <a:xfrm>
            <a:off x="-36360" y="5846760"/>
            <a:ext cx="834840" cy="9669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8"/>
          <p:cNvSpPr/>
          <p:nvPr/>
        </p:nvSpPr>
        <p:spPr>
          <a:xfrm>
            <a:off x="596880" y="1459080"/>
            <a:ext cx="800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СР «Сложение и умножение вероятнос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17_Сложение и умножение вероятностей[ДЗ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19280" y="260280"/>
            <a:ext cx="76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Справочн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18"/>
          <p:cNvGrpSpPr/>
          <p:nvPr/>
        </p:nvGrpSpPr>
        <p:grpSpPr>
          <a:xfrm>
            <a:off x="696960" y="1577880"/>
            <a:ext cx="923760" cy="533520"/>
            <a:chOff x="696960" y="1577880"/>
            <a:chExt cx="923760" cy="533520"/>
          </a:xfrm>
        </p:grpSpPr>
        <p:sp>
          <p:nvSpPr>
            <p:cNvPr id="51" name="Прямоугольник 17"/>
            <p:cNvSpPr/>
            <p:nvPr/>
          </p:nvSpPr>
          <p:spPr>
            <a:xfrm>
              <a:off x="696960" y="1577880"/>
              <a:ext cx="914400" cy="5335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Объект 7"/>
                <p:cNvSpPr txBox="1"/>
                <p:nvPr/>
              </p:nvSpPr>
              <p:spPr>
                <a:xfrm>
                  <a:off x="696960" y="1577880"/>
                  <a:ext cx="9237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∪</m:t>
                      </m:r>
                      <m:r>
                        <m:t xml:space="preserve">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" name="TextBox 8"/>
          <p:cNvSpPr/>
          <p:nvPr/>
        </p:nvSpPr>
        <p:spPr>
          <a:xfrm>
            <a:off x="1843200" y="1531800"/>
            <a:ext cx="679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ъединение) – событие, состоящее из элементарных исходов, благоприятствующ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бы одному из событий А,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20"/>
          <p:cNvGrpSpPr/>
          <p:nvPr/>
        </p:nvGrpSpPr>
        <p:grpSpPr>
          <a:xfrm>
            <a:off x="609480" y="2806560"/>
            <a:ext cx="1143000" cy="609840"/>
            <a:chOff x="609480" y="2806560"/>
            <a:chExt cx="1143000" cy="609840"/>
          </a:xfrm>
        </p:grpSpPr>
        <p:sp>
          <p:nvSpPr>
            <p:cNvPr id="55" name="Прямоугольник 19"/>
            <p:cNvSpPr/>
            <p:nvPr/>
          </p:nvSpPr>
          <p:spPr>
            <a:xfrm>
              <a:off x="609480" y="2806560"/>
              <a:ext cx="1143000" cy="6098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Object 3"/>
                <p:cNvSpPr txBox="1"/>
                <p:nvPr/>
              </p:nvSpPr>
              <p:spPr>
                <a:xfrm>
                  <a:off x="685440" y="2882520"/>
                  <a:ext cx="9241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r>
                        <m:t xml:space="preserve">∩</m:t>
                      </m:r>
                      <m:r>
                        <m:t xml:space="preserve">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" name="TextBox 10"/>
          <p:cNvSpPr/>
          <p:nvPr/>
        </p:nvSpPr>
        <p:spPr>
          <a:xfrm>
            <a:off x="1979640" y="2781360"/>
            <a:ext cx="678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сечение) – событие, состоящее из элементарных исходов, благоприятствующи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им событиям А и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Группа 15"/>
          <p:cNvGrpSpPr/>
          <p:nvPr/>
        </p:nvGrpSpPr>
        <p:grpSpPr>
          <a:xfrm>
            <a:off x="687240" y="3873600"/>
            <a:ext cx="400320" cy="459720"/>
            <a:chOff x="687240" y="3873600"/>
            <a:chExt cx="400320" cy="459720"/>
          </a:xfrm>
        </p:grpSpPr>
        <p:sp>
          <p:nvSpPr>
            <p:cNvPr id="59" name="TextBox 11"/>
            <p:cNvSpPr/>
            <p:nvPr/>
          </p:nvSpPr>
          <p:spPr>
            <a:xfrm>
              <a:off x="687240" y="3873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ая соединительная линия 13"/>
            <p:cNvSpPr/>
            <p:nvPr/>
          </p:nvSpPr>
          <p:spPr>
            <a:xfrm>
              <a:off x="760320" y="3949560"/>
              <a:ext cx="303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16"/>
          <p:cNvSpPr/>
          <p:nvPr/>
        </p:nvSpPr>
        <p:spPr>
          <a:xfrm>
            <a:off x="1217520" y="387360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ым событию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состоит из элементарных исходов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не входят в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681120" y="4797360"/>
            <a:ext cx="80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местные собы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бытия, которые не наступают в одном опы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:\анимашки\knigi-124.gif"/>
          <p:cNvPicPr/>
          <p:nvPr/>
        </p:nvPicPr>
        <p:blipFill>
          <a:blip r:embed="rId1"/>
          <a:stretch/>
        </p:blipFill>
        <p:spPr>
          <a:xfrm>
            <a:off x="737244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31880" y="260280"/>
            <a:ext cx="66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и противоположных собы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609480" y="1379520"/>
            <a:ext cx="79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сложения вероятностей для совместных собы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17040" y="2230560"/>
            <a:ext cx="57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сложения для несовместных собы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36840" y="3249720"/>
            <a:ext cx="43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умножения вероят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Объект 7"/>
              <p:cNvSpPr txBox="1"/>
              <p:nvPr/>
            </p:nvSpPr>
            <p:spPr>
              <a:xfrm>
                <a:off x="990720" y="762120"/>
                <a:ext cx="605448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+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                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Объект 8"/>
              <p:cNvSpPr txBox="1"/>
              <p:nvPr/>
            </p:nvSpPr>
            <p:spPr>
              <a:xfrm>
                <a:off x="1981080" y="1760400"/>
                <a:ext cx="444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∪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+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В</m:t>
                        </m:r>
                      </m:e>
                    </m:d>
                    <m:r>
                      <m:t xml:space="preserve">−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∩</m:t>
                        </m:r>
                        <m:r>
                          <m:t xml:space="preserve">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2057400" y="2611440"/>
                <a:ext cx="3119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∪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+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1" name="Picture 8" descr="E:\анимашки\knigi-124.gif"/>
          <p:cNvPicPr/>
          <p:nvPr/>
        </p:nvPicPr>
        <p:blipFill>
          <a:blip r:embed="rId1"/>
          <a:stretch/>
        </p:blipFill>
        <p:spPr>
          <a:xfrm>
            <a:off x="7391520" y="0"/>
            <a:ext cx="1428480" cy="142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5"/>
              <p:cNvSpPr txBox="1"/>
              <p:nvPr/>
            </p:nvSpPr>
            <p:spPr>
              <a:xfrm>
                <a:off x="609480" y="3679920"/>
                <a:ext cx="3224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∩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⋅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В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Скругленная прямоугольная выноска 18"/>
          <p:cNvSpPr/>
          <p:nvPr/>
        </p:nvSpPr>
        <p:spPr>
          <a:xfrm>
            <a:off x="5908680" y="3078000"/>
            <a:ext cx="2666880" cy="1143000"/>
          </a:xfrm>
          <a:prstGeom prst="wedgeRoundRectCallout">
            <a:avLst>
              <a:gd name="adj1" fmla="val -128175"/>
              <a:gd name="adj2" fmla="val 21759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Условная вероятность В при условии, что А наступ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9"/>
          <p:cNvSpPr/>
          <p:nvPr/>
        </p:nvSpPr>
        <p:spPr>
          <a:xfrm>
            <a:off x="611280" y="4292640"/>
            <a:ext cx="79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умножения вероятностей для независимых событий (наступают одновременно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611280" y="5064120"/>
                <a:ext cx="2840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∩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⋅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Прямоугольник 2"/>
          <p:cNvSpPr/>
          <p:nvPr/>
        </p:nvSpPr>
        <p:spPr>
          <a:xfrm>
            <a:off x="668160" y="5529240"/>
            <a:ext cx="78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называю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появление одного их них не зависит от появления другого (друг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755640" y="260280"/>
            <a:ext cx="7632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вероятность того, что из колоды, содержащей 36 карт, вынут туз или пиковую масть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ritos.ucoz.ru/_pu/2/62029949.png"/>
          <p:cNvPicPr/>
          <p:nvPr/>
        </p:nvPicPr>
        <p:blipFill>
          <a:blip r:embed="rId1"/>
          <a:stretch/>
        </p:blipFill>
        <p:spPr>
          <a:xfrm>
            <a:off x="7020000" y="3295800"/>
            <a:ext cx="1728720" cy="2663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755640" y="146052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 — «вытащили ту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 — «вытащили пиковую маст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 — «вытащили пиковый ту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Объект 3"/>
              <p:cNvSpPr txBox="1"/>
              <p:nvPr/>
            </p:nvSpPr>
            <p:spPr>
              <a:xfrm>
                <a:off x="774720" y="3068640"/>
                <a:ext cx="4444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∪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+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В</m:t>
                        </m:r>
                      </m:e>
                    </m:d>
                    <m:r>
                      <m:t xml:space="preserve">−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∩</m:t>
                        </m:r>
                        <m:r>
                          <m:t xml:space="preserve">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Объект 4"/>
              <p:cNvSpPr txBox="1"/>
              <p:nvPr/>
            </p:nvSpPr>
            <p:spPr>
              <a:xfrm>
                <a:off x="755640" y="3645000"/>
                <a:ext cx="1882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Объект 5"/>
              <p:cNvSpPr txBox="1"/>
              <p:nvPr/>
            </p:nvSpPr>
            <p:spPr>
              <a:xfrm>
                <a:off x="2916360" y="3645000"/>
                <a:ext cx="190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Объект 6"/>
              <p:cNvSpPr txBox="1"/>
              <p:nvPr/>
            </p:nvSpPr>
            <p:spPr>
              <a:xfrm>
                <a:off x="808200" y="4564080"/>
                <a:ext cx="4340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∪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TextBox 8"/>
          <p:cNvSpPr/>
          <p:nvPr/>
        </p:nvSpPr>
        <p:spPr>
          <a:xfrm>
            <a:off x="5891040" y="6022800"/>
            <a:ext cx="249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твет: 1/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324000" y="260280"/>
            <a:ext cx="84247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атлонист пять раз стреляет по мишеням. Вероятность попадания в мишень при одном выстреле равна 0,8. Найдите вероятность того, что биатлонист первые три раза попал в мишени, а последние два раза промахнулся. Результат округлите до со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801720" y="2608200"/>
            <a:ext cx="773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попадания = 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оятность промаха = 1 - 0,8 = 0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{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попал, попал, поп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0099"/>
                </a:solidFill>
                <a:latin typeface="Calibri"/>
                <a:ea typeface="Times New Roman"/>
              </a:rPr>
              <a:t>промахнулся, промахнулс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формуле умножения вероя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(А)= 0,8 ∙ 0,8 ∙ 0,8 ∙ 0,2 ∙ 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(А)= 0,512 ∙ 0,04 = 0,02048 ≈ 0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0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&amp;Kcy;&amp;acy;&amp;rcy;&amp;tcy;&amp;icy;&amp;ncy;&amp;kcy;&amp;acy; 126 &amp;icy;&amp;zcy; 156536"/>
          <p:cNvPicPr/>
          <p:nvPr/>
        </p:nvPicPr>
        <p:blipFill>
          <a:blip r:embed="rId1"/>
          <a:stretch/>
        </p:blipFill>
        <p:spPr>
          <a:xfrm>
            <a:off x="7164360" y="4292640"/>
            <a:ext cx="14828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353880" y="260280"/>
            <a:ext cx="839484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магазине стоят два платежных автомата. Каждый из них может быть неисправен с вероятностью 0,05 независимо от другого автомата. Найдите вероятность того, что хотя бы один автомат исправ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585720" y="221940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6"/>
              <p:cNvSpPr txBox="1"/>
              <p:nvPr/>
            </p:nvSpPr>
            <p:spPr>
              <a:xfrm>
                <a:off x="684360" y="3068640"/>
                <a:ext cx="5029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А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оба автомата неисправны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TextBox 7"/>
          <p:cNvSpPr/>
          <p:nvPr/>
        </p:nvSpPr>
        <p:spPr>
          <a:xfrm>
            <a:off x="611280" y="3645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формуле умножения вероят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647640" y="4149720"/>
                <a:ext cx="3924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Box 8"/>
          <p:cNvSpPr/>
          <p:nvPr/>
        </p:nvSpPr>
        <p:spPr>
          <a:xfrm>
            <a:off x="611280" y="2652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А=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{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хотя бы один автомат исправен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669960" y="4869000"/>
                <a:ext cx="54147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Box 10"/>
          <p:cNvSpPr/>
          <p:nvPr/>
        </p:nvSpPr>
        <p:spPr>
          <a:xfrm>
            <a:off x="892080" y="5950080"/>
            <a:ext cx="74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0,9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84360" y="260280"/>
            <a:ext cx="77040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вой урне находятся 7 белых и 4 черных шара, во второй — 6 белых и 3 черных шара. Из каждой урны извлекают по одному шару. Какова вероятность того, что оба шара бел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590400" y="2251080"/>
            <a:ext cx="815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 — «из первой урны извлечен белый ша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 — «из второй урны извлечен белый ша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 — «оба  шара бел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A) = 7/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(B) = 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ытия А и В независимы, применив теорему умноже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0"/>
              <p:cNvSpPr txBox="1"/>
              <p:nvPr/>
            </p:nvSpPr>
            <p:spPr>
              <a:xfrm>
                <a:off x="611280" y="4941720"/>
                <a:ext cx="4451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  <m:r>
                          <m:t xml:space="preserve">∩</m:t>
                        </m:r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⋅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В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Box 11"/>
          <p:cNvSpPr/>
          <p:nvPr/>
        </p:nvSpPr>
        <p:spPr>
          <a:xfrm>
            <a:off x="826920" y="5950080"/>
            <a:ext cx="74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4/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24000" y="260280"/>
            <a:ext cx="84247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ор состоит из трех независимо работающих элементов. Вероятность выхода из строя первого элемента 0,2; второго — 0,3; третьего — 0,2. Какова вероятность того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  все три элемента выйдут из ст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  все элементы будут рабо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611280" y="2565360"/>
            <a:ext cx="813744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«первый элемент вышел из стро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«второй элемент вышел из строя»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«третий элемент вышел из строя»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ытия 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независ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(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= 0,2; P(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= 0,3; P(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= 0,2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 Р(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= Р(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·Р(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·Р(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= 0,2·0,3·0,2 =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Объект 3"/>
              <p:cNvSpPr txBox="1"/>
              <p:nvPr/>
            </p:nvSpPr>
            <p:spPr>
              <a:xfrm>
                <a:off x="971640" y="5510160"/>
                <a:ext cx="4630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∩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∩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А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0,8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380880" y="303120"/>
            <a:ext cx="83678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ч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магазине стоят три платежных автомата. Каждый из них может быть неисправен с вероятностью 0,1. Найдите вероятность того, что хотя бы один автомат исправ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85720" y="187308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3"/>
              <p:cNvSpPr txBox="1"/>
              <p:nvPr/>
            </p:nvSpPr>
            <p:spPr>
              <a:xfrm>
                <a:off x="639720" y="2722680"/>
                <a:ext cx="5118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А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три автомата неисправны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TextBox 4"/>
          <p:cNvSpPr/>
          <p:nvPr/>
        </p:nvSpPr>
        <p:spPr>
          <a:xfrm>
            <a:off x="611280" y="32986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формуле умножения вероятнос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708120" y="3803760"/>
                <a:ext cx="38034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Box 6"/>
          <p:cNvSpPr/>
          <p:nvPr/>
        </p:nvSpPr>
        <p:spPr>
          <a:xfrm>
            <a:off x="611280" y="230652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А=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{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хотя бы один автомат исправен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684360" y="4522680"/>
                <a:ext cx="5049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А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Р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А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Box 8"/>
          <p:cNvSpPr/>
          <p:nvPr/>
        </p:nvSpPr>
        <p:spPr>
          <a:xfrm>
            <a:off x="892080" y="5950080"/>
            <a:ext cx="742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вет: 0,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4" descr="&amp;Kcy;&amp;acy;&amp;rcy;&amp;tcy;&amp;icy;&amp;ncy;&amp;kcy;&amp;acy; 1081 &amp;icy;&amp;zcy; 212399"/>
          <p:cNvPicPr/>
          <p:nvPr/>
        </p:nvPicPr>
        <p:blipFill>
          <a:blip r:embed="rId1"/>
          <a:stretch/>
        </p:blipFill>
        <p:spPr>
          <a:xfrm>
            <a:off x="6343560" y="3645000"/>
            <a:ext cx="24051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2:32:37Z</dcterms:created>
  <dc:creator>Лавлинский</dc:creator>
  <dc:description/>
  <dc:language>en-US</dc:language>
  <cp:lastModifiedBy>Гульназира</cp:lastModifiedBy>
  <dcterms:modified xsi:type="dcterms:W3CDTF">2023-11-12T16:59:20Z</dcterms:modified>
  <cp:revision>178</cp:revision>
  <dc:subject/>
  <dc:title>Арифметические основы компьютера</dc:title>
</cp:coreProperties>
</file>